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0B8E-DE16-4296-AD9B-B262735C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3525-29B4-4914-8B87-1145EE8D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CF8-A114-447B-B988-A461A1DD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F10-E605-4846-9C12-3BC9B301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486F-4FCD-432A-9520-B9621ABB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8E77-B9E8-419A-97C3-21D3469C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AA64-11D3-4CAF-8782-793D1C99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E272-D2D4-41A4-A642-CAFC8399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2746-9B46-4DE6-B540-93E8F483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15D7-16E2-43BC-886B-D40AE6D8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29F4-6BB5-47DE-9479-E0167B0E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4ADB-E836-4926-82A9-CAFC44B6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7886-DA63-437C-AC6E-D837DCD7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F5A5-CBD2-46CE-AC03-7B4DD142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0B29-4AB7-45DB-8246-6273A784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C8FD-A84A-4CFE-9806-403279B3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64B6-944C-4BBE-907E-2325E2E1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7B20-516D-4DAC-8591-EA1BFFF0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B92C-EADD-4484-B975-EC906A8F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79E-2E40-4EE5-ADBE-B43824FC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4FB-8F14-4F9D-864E-C2A7FA27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38F-7368-4A59-8516-630B4C26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01F0-6F85-401C-BD01-C88CB932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FF9-628C-494D-B580-87C69DEA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bd3737"/>
                </a:gs>
                <a:gs pos="100000">
                  <a:srgbClr val="721e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1e1e"/>
                </a:gs>
                <a:gs pos="100000">
                  <a:srgbClr val="bd3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8CD3-CECA-4EB0-9F3F-C010FDE2009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7cc2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d3737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bd37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3D12-C903-44D9-948E-5512612AAF7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vocabulary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Dust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cal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qual weight in a number eq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09680" y="2182680"/>
            <a:ext cx="53341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vertical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 and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1752480"/>
            <a:ext cx="761760" cy="1828800"/>
          </a:xfrm>
          <a:prstGeom prst="upArrow">
            <a:avLst>
              <a:gd name="adj1" fmla="val 50000"/>
              <a:gd name="adj2" fmla="val 6001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09680"/>
            <a:ext cx="1752840" cy="1752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horizontal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de to s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2895480"/>
            <a:ext cx="3962520" cy="914400"/>
          </a:xfrm>
          <a:prstGeom prst="rightArrow">
            <a:avLst>
              <a:gd name="adj1" fmla="val 50000"/>
              <a:gd name="adj2" fmla="val 10833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4876920"/>
            <a:ext cx="5257800" cy="1218960"/>
          </a:xfrm>
          <a:prstGeom prst="leftArrow">
            <a:avLst>
              <a:gd name="adj1" fmla="val 50000"/>
              <a:gd name="adj2" fmla="val 107834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20:48:10Z</dcterms:created>
  <dc:creator>dustin.cossman</dc:creator>
  <dc:description/>
  <dc:language>en-US</dc:language>
  <cp:lastModifiedBy>dustin.cossman</cp:lastModifiedBy>
  <dcterms:modified xsi:type="dcterms:W3CDTF">2010-11-23T20:50:25Z</dcterms:modified>
  <cp:revision>1</cp:revision>
  <dc:subject/>
  <dc:title>vocabulary</dc:title>
</cp:coreProperties>
</file>